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8F7-D55C-47C6-9DCB-93489E1C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F24-40A6-4E3B-8576-32BD962D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FBDA7-40AC-4989-9A19-03FFD45F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C05A9-B68C-4D52-B5BD-3A375BE8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C7016-6A62-4EB1-9B59-43F02805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C535A-3577-4BB7-B6AB-1DFDCD3B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1FE8A-A655-4950-9048-24E6ECFA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A944A-963A-4A6E-898B-3F8D181E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FDCFE-69BD-43CE-B404-AAE96F69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B2051-BBBC-47DA-8149-CEE4ADD2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D12A8-DEBE-4858-8E7F-976A8D57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6AC7A-7D74-420C-A2B4-005C7C58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3F4-7CC4-4643-977E-76025CA2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A5B19-271E-415E-826A-6EDAFADC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A345D-1E25-4490-ACD1-DC7F576A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6B951-101D-426B-AFD6-88DCF443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F90E3-782A-4624-83CB-0C79F8E9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056D2-C92E-4BA0-BA40-C2C80FA6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E96EF-0534-4A08-87B4-445CF2C9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17864-DBD8-45C0-B500-BE634A8E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DAA16-7EA9-48AF-948B-8663C2E4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1CF05-48EA-4FBE-8A36-CCA7779B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13BA1-A697-4C7C-A97F-1EBB6763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1F2F-023C-487B-AC8F-C7D06D21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CDA6E-3CE3-4E7D-8186-BB90444B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D20D3-FBED-4995-AC8A-18612E16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4F881-29E6-4A2C-B04C-D3BCD25F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E5A73-7E1E-4461-94F3-CF264FED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4558B-A69D-4AD5-AF97-DD0FB62C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473AA-0EBE-41E2-A1DD-36960FBC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50D2A-0D8E-4FEB-B088-4C50CA20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683D6-EEF5-4172-99CF-BF4B30D5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0DE42-965C-4889-9BC3-8F4F162B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1ADA8-B58D-4E09-B86E-5464B4F8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8ACF-05B1-487A-9A62-FBF92D1E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74F8C-A9BB-4FE1-BC80-8545A9AF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7C2C3-9525-4C01-83AB-3ABD9B55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AA2FC-56C3-4D1B-B6A5-17A10C35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BF0DB-9A45-4D5C-AAEB-DC2768BD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9EE22-A74C-489B-B462-39074F7B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D7A66-836C-498E-8CD4-27F0CE4F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3924F-C267-4DFB-8843-56F40355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44F74-3638-4872-8099-A9CD49CB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8ECEF-0732-4361-BF06-BEB5F989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31A4B-2E47-446B-BA3B-0D5AE401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7306-867E-4A6F-9243-57969ED3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1A0A4-F749-4BC2-9CC1-9AA04744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9642D-5706-4845-B954-346C7AA4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94093-357C-400E-830F-D513EEEA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23DC2-05D4-4AD8-BA42-C538D184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61B3A-F864-4825-9B12-A0CCA358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2DD7D-A8B9-4A24-9FFA-AFF2093A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A64B7-1D41-4F74-9EDC-C189BDCF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64A569-A1B4-4D8E-8054-E67BEEC7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BFDABF-1E89-4FEB-B057-9096C482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746D7-2AFB-41E5-A19E-8FFCA64B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95B7-AB5B-4DAD-A3D2-E1202D1C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62E54-B4F5-45D8-9F1C-AFAF7B50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DD02DB-24C8-4EB0-B7D5-1879D7A0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1A0E9-B5EC-491D-9912-B634FFFA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93413-0976-4816-82DB-6E880F52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712B44-81BE-447C-9C86-DA397B5A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3E509-3D26-42EB-9040-92702D34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AA0DF-B53F-4A54-B11C-35024AEA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128B00-1C0D-4FE8-B722-8CE14FCA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CC496-25F6-438F-A900-B2B0EE66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93A443-9E56-496E-B9FD-51F93ACF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FACC-BBC9-4AD1-A791-FFDD529A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05A5F-CB0E-4FCE-A7BA-87233785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B9AE1-F141-4929-8C74-81A116F0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0016C-518F-4064-B2BC-261CBB52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165A56-5AA5-4561-8759-3FA13277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038BC2-23C1-4A25-BA98-C266DAE4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7D3582-1E9E-47DD-B375-86F5E181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AB64DB-30A6-49EE-A14C-3E481494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4EC95C-B77D-4ED5-A808-09A1BCB8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C95A37-E008-48C8-9930-F7BA7DF1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9B4487-A563-4A9C-BFB1-4FB8B348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D299-48DB-48D2-8781-00A100EC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6B9D80-2568-461F-B6F0-44545753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07BBEF-5714-4BD3-8DFB-894E40C6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85BFFC-95A8-416B-AA9D-36982486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EF7014-5DD5-4993-94F0-8D122E5F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1C4625-21E7-4E57-AC72-0D5E885B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326A7D-F597-4545-B7E1-E89EE7B0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A4570F-741D-423B-B350-1DF6809A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1DC827-C3B0-4091-B401-D9B641C6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A126D5-E74C-46EE-A0B9-0627F66E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087D0-C4AC-4C34-8FB0-595D511B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4934-4FF1-4179-AFE9-CAC82501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6F5ED-B38E-4137-A759-3E3A8224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06FE6F-F479-4FAB-B3E2-BC6BB823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A8647C-A4B7-427E-9CFD-23DA3E6E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A7BDD5-46B2-4E10-ADE9-FE8B9158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5312E1-4496-424E-9F72-DC30B15B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4382A9-7F86-463E-882C-D36F1624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F1E04E-A078-4E35-848F-8C503E59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4112BE-428C-4555-9D47-14D73CE7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33773C-2327-4B45-9A9D-67795D39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CF2403-130A-44FE-8E4A-EE86E7EA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4557-A784-4372-A5AC-3057E31A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B2FF36-8006-45FA-8906-37C4E4B2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DA4E6D-8EE3-4BEA-9F2E-19AD5A7C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E7824B-BF19-4F94-BC0B-384CBBBF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C666E0-0D8C-4E1B-8944-8DF61D12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CCB5AA-329A-439A-9E51-64C08F66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F7423-633B-4C05-A2C4-4FDBF75F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63DD58-9005-4EF6-895E-145E2E91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376B30-960D-4A4C-9823-4D4A331C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577804-E88D-4D75-B758-D87F68AC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6F5A0F-0312-4C19-BFA2-A9D0ADEF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F8F-8C00-4FD3-BD33-DF8F50FC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D440-C7E2-4F56-977D-CD015AC9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DF5A6A-A5E0-4B7E-A40C-AD0D90AA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F58699-3599-469E-9789-4D14BB45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D5EC72-E4DA-478C-B525-2F237578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D99A25-7AB1-4D3F-8123-191A095D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E5EF83-A1EB-44DC-A7C4-469E8869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5483A6-DD7A-46B3-B94D-F9566C31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460AF2-5A8E-42C7-8B99-164C0E8F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223EA9-6B83-4AD0-A83D-D7B2B8EB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60BA08-4E81-445F-99A6-AC38DDE8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CD9364-9833-4FC4-B222-2EBA8B8D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4E8B-1CE9-4F59-92B0-379291A7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67699B-35D8-4FEF-90F1-75BD08FD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F33E0-77B6-4B97-A97F-4C21521C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F2ED42-67E7-4479-9F56-54A2E5C5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46088-9AA8-4843-B822-FDE220A4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C4AD5F-C1C7-4C61-9328-DAD5306E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ACFC7A-C9EE-4A40-BE4A-DF52005A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589BB1-A9EB-4FD2-B040-8D8FDB00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F1B399-AEF0-4822-AE75-5B607209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E2B1EA-C77A-4025-91C7-6BB056C8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5B84A1-D1E6-4A0C-95A6-473074F4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7978-8BCC-4217-B8C8-9E69BA0E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6E5E9E-E213-4F51-A20D-30829028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FF0A63-4139-4D4D-A364-2889E079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B57722-6D65-4D8C-9E2F-8F66AF22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BC48FA-F2E9-49F0-A14C-63412B72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FB1291-5DF6-450C-9E36-C0D3B52C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DB9905-68EA-4E02-BEE1-F56F334E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03F99C-416E-4D4E-8AF4-47B69174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713FE2-A6A1-4FFB-873F-C499B4C8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9EB210-F296-488E-AC0C-038E2DF9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C8B2FE-193B-4F6F-97D7-A9B38676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4CD4-B6C0-40CE-AAA4-815C80B6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E9BC9D-BCC7-4299-8CBC-2C213DA1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ABA426-9524-4923-8AAD-346E6FAD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842395-0E57-441F-82D7-DF41B95E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92261C-0981-46BF-AA03-7560D2ED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BCE050-CDC5-4BEF-8352-2E5629FA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15F55C-73F6-4BB0-8B26-40D4ECD4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F993C0-0C25-4B46-BF7F-531B79E2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AF2474-1241-454E-A0C6-8959C6E8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52081A-1E76-4C28-88F7-85BAD87F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E6CCB8-7CE8-48BF-8CDF-F913250A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675A-8EF7-4FA3-947B-02C54474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B0A116-759B-4804-8288-758C5318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76FA34-99A4-4ED4-9906-2F71D9F4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0B6A3D-270F-400E-A42B-834A6524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0C2DE4-AB48-4011-814C-577DBCB2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E82614-9498-4705-882D-72BAB008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2CF102-0E28-440D-BEDA-A2FF98AE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8B511C-8D2A-4341-A2B5-3B081168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56F5B2-6DB9-49D3-A395-F21C5F3A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C8E962-22F9-4A6D-8580-1052A254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E33846-CE7D-4D88-9109-7D138221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0E665-D61D-41A8-8A27-4777D838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47E030-CC38-49BC-9E29-DE6FFC71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5BB767-04E2-4620-9583-F288F11F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61E10B-2C8E-408A-8FCB-6CE11A3B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CC88FA-6F8C-4745-8372-90292CCF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187B10-AB0B-4674-BB7F-10276032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ED4667-BDFD-4763-84DD-B727FCAF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00F96B-0E28-4720-AA07-0DA6215A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54F689-BA4B-4E74-B255-FAC2E710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804652-5530-4269-B27A-EFF7AD1C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7A43A9-C9CA-4DC6-8203-BB8E018F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D90BC-EA72-40FB-97A2-B9D06A45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8A1661-8EAA-402D-B867-B559D620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DA8BE3-891E-45F9-81F1-C67FBD48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669B7C-C76A-470E-A57A-C496A013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22D88E-FD14-406D-BC6D-7C65A7D4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76D09C-9896-49A7-A7EA-662F9F97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720DC8-9749-41E3-988B-12375316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B7874B-DBFE-48CB-88E2-EF159CA0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110267-BDB5-4149-9F32-6FA786E2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6B49AD-FBCB-483E-ADB3-F73F7292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A18F7E-E541-4EBC-AA2D-B7196EE7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B8A4F-644D-4949-8A36-A287BFE8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9C11C8-5E9B-4ADB-A8DC-AD9A4B93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4C520C-C8D0-45A3-B44B-F043E30A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76D080-B1D4-4B96-979F-80568F56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6206D8-09CE-4B8D-8F95-B57BC25A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038D3E-ABE1-45F6-B568-A6BD9306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9A9C52-53E2-4FB3-A24E-1642F805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F225D4-8D3D-4EB5-8D87-4CC4A28D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C36E4-2C0B-4CAC-A2B2-C3D7999C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4E3B6-5149-4BFE-B666-A49FC132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4E4-3346-443E-8220-12D36755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114CD-446B-4988-A057-365EF1F0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4B10C-25C6-4F09-942C-A946C216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CD0C8-1F5B-465E-943F-0CB410DF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3C861-9898-441D-86C4-2A1E6BBD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62814-290C-4551-BD9F-0D2AB732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08BAE-2699-475F-904D-30976248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0F3E4-DB45-4823-A8AE-80EB2E88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FB22A-B2E0-4B84-9DD4-88922B12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EE37A-0E99-49BE-878A-50C5F1BA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1AB5B-5AB0-4C15-A693-2A4E4A6C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37C-1002-4FB2-9068-26CD14D1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94177-8014-4C84-85CB-BC4BC796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7788B-CB6B-4256-9443-1A8C5449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412A8-5EC8-4C70-930B-EAC0E5FA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A0A22-6FFE-4D14-BE19-D2CD4BCD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40F0D-ED4D-416B-BD01-FC6293C8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3A499-0AE4-4C1D-8D49-45B32E25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DB479-D709-4830-97D4-2B0DD0A6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7517C-525B-44A1-8815-78F9BAD5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3E3BA-CBAB-4125-9A1F-44616DCD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645D2-1F68-47E1-B876-700FC9C4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097-1BD5-417A-841B-09ED4E9B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8A0FE-9BE0-462E-834C-6781EEDB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45400-3595-4A31-8CCF-4363B914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DE356-2A0D-4782-AC29-B9C18ED9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581B4-FD48-4353-B624-B50267F7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53C6A-D290-49BA-84E7-53214253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B3602-EEE6-448A-A1AF-C42C5DFC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4707E-6782-4019-8A1F-FAAFC7F2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91C7F-4743-455E-AE7C-DBBF36D6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A8FB8-AC4B-4822-AF6F-FFAD165E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46B9C-BB7A-4EF8-BDC5-D9516485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060-ED54-4572-A7D7-C3D0C409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0824E-AD4C-4474-8CD3-B5EEE1F5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B7378-573E-4EF3-8F68-2D3FA3FC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C946A-9BE0-4FDA-895A-2C167D03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14E34-07D8-424B-B2B5-8C34000A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CBE7A-4A82-44F2-9A5C-A71F4ED3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80016-090B-483B-B556-3656D60B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FE41C-568A-40E2-8559-C535FFD6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DB5D8-CDE5-417F-B4BD-66D9F14C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60070-7B9C-4BF7-8945-F3DC2627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341BA-C76B-441C-8F45-272774E3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B9C-CCDE-4517-94D4-D5A7A8F7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2E959-9B76-4921-9F1D-A547583C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340C2-8552-4535-902E-4A1F7126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78FB1-CFDF-48E7-8DD3-BA1DA76E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A7ACF-1909-4565-A689-DDEC09B2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EF619-CAB2-4671-8E0D-83865268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D6655-F254-4C1E-95A5-48996BA4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536CD-44DF-4D4F-96AA-6208D728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0256A-8A29-47A2-B476-03E907D7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249C1-D3B7-44F6-B366-61FC2126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1542A-2F28-4217-90D5-D9DDB912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C23-18A9-4C8D-A931-3327CB72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67611-A9D2-4081-BB0D-DE3610A3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1823B-DD28-4730-9A35-5891C2E5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D9BC5-1808-419D-BD65-FE5A3D14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56E13-E277-4FC3-B470-860CB635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150D1-9CBE-459C-A3AB-03B8A249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01537-93A3-420C-9909-4192F2CD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56BBC-3051-4431-B02B-1CEE0DC4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8FB05-8063-42C7-A441-ED3FC3B3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5455F-90B3-4A41-B511-DC28B755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2A71B-9D1D-41F8-949C-E3853366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075-53A2-4B32-B127-E85802C5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72161-F1E2-4C42-9F4B-48AC829F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59AEF-4763-402A-8479-D1BADD0D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F24DD-CF88-4200-99A7-F5929FDE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429DE-9FAD-45F2-9865-39FCD628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CE640-630D-4888-B364-23442F19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0BABB-9E30-4FB4-8D5B-16F3A066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7A37B-8B33-4610-ADEC-82474E60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4561F-F12A-4CB4-A4BD-1174CF9B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81FC1-2FA4-461E-A41B-6039B0D0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03E03-0AA0-42AA-9B94-960CE908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516F-E212-419E-9CFE-5503DC57F9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1713-8E21-4797-8278-E7EFFEBC72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4262-2671-48F8-B6A0-2AF49375D1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AE3A-8A24-4F50-9BBE-C09519B132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875E-FC38-42CC-80A2-91D99963A2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B53C-F218-4161-8B39-BC480B71A0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0B83-7033-44F9-81A7-C14AF8FB39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6CB6-694C-48DE-8CF7-D32A670C41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D047-3D30-4EA7-B91F-BCF6173508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08C8-8762-4648-B62F-37071B359F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47B5-06BD-421F-A654-0D78A3D6DB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68B2-8291-4C04-AAA7-81054CDE03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1D69-C05F-4412-9B2D-EEEC13F2C0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17C6-9FB6-4274-92BD-83F627FF09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F818-87C7-45BC-B1B5-E88B4B1792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ED81-B1E5-4D56-BD37-BAEC0FDB29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57F7-3EC7-4491-B8BD-4299DCC34C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1B42-56C6-45BE-9AEC-30752E11F5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7A1A-7566-489D-BDC8-321E59BD3B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50B8-4EC9-4BAF-84B9-6DD62C867C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F4F6-2192-4C67-BE39-BF85636F48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2DBB-FF8B-481A-92D7-2FA8DAEE3B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5EAA-6EBE-49B6-BE8A-5D72C9208F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B4EE-EFC1-4F0F-B612-D0ECE0F63B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45FA-81A2-4168-B48A-4C511ADA7C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607E-B412-48BF-891A-B0687F66EE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E8BB-DDAE-4310-A201-F4921FCF42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A374-7EA8-4329-9F6B-4B9D189B24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9C40-AB69-42FC-AF9A-679964EBD4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6F1B-7BCB-4B7E-8480-8964AC4007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1FDB-4D01-41C6-B5AF-D61613DE85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257E-9F18-49C4-B796-43708BB1B6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CE94-B1FF-4727-9739-06A0DF586B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144D-F451-43FC-999A-DF37063397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89B4-696E-455A-BF66-3847505959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2036-4563-48BD-9BBF-EAC30A5707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9EE8-0B1B-47E8-B7A2-DEC3976B46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28E0-46E4-44D3-9A66-8CD7AF0D8E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DE5B-7697-44F8-8647-F11C43EF2A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6E7C-F632-4D46-A0E4-3CFD6AC835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849D-133F-4C7E-8380-D9D98AB7B8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E96A-0C13-44A8-8C6C-BABCB790E2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57240" y="2776680"/>
            <a:ext cx="90295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52560" y="1406520"/>
            <a:ext cx="9040680" cy="183348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2" descr=""/>
          <p:cNvPicPr/>
          <p:nvPr/>
        </p:nvPicPr>
        <p:blipFill>
          <a:blip r:embed="rId2"/>
          <a:stretch/>
        </p:blipFill>
        <p:spPr>
          <a:xfrm>
            <a:off x="1200240" y="3483000"/>
            <a:ext cx="6743520" cy="2276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2973240" y="1844640"/>
            <a:ext cx="6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3132000" y="242100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5508720" y="184464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5508720" y="2349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8632800" y="1844640"/>
            <a:ext cx="43992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8"/>
          <a:stretch/>
        </p:blipFill>
        <p:spPr>
          <a:xfrm>
            <a:off x="8288280" y="2363760"/>
            <a:ext cx="8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9"/>
          <a:stretch/>
        </p:blipFill>
        <p:spPr>
          <a:xfrm>
            <a:off x="3276720" y="4076640"/>
            <a:ext cx="82692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0"/>
          <a:stretch/>
        </p:blipFill>
        <p:spPr>
          <a:xfrm>
            <a:off x="3089160" y="4724280"/>
            <a:ext cx="8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1"/>
          <a:stretch/>
        </p:blipFill>
        <p:spPr>
          <a:xfrm>
            <a:off x="6199200" y="4048200"/>
            <a:ext cx="82692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12"/>
          <a:stretch/>
        </p:blipFill>
        <p:spPr>
          <a:xfrm>
            <a:off x="5608800" y="4681440"/>
            <a:ext cx="826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0160" y="905040"/>
            <a:ext cx="8743680" cy="56959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2340000" y="4869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6948360" y="4869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6804000" y="551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2325600" y="60930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866880" y="2324160"/>
            <a:ext cx="7410240" cy="22096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3780000" y="29671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2556000" y="38466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190440" y="901800"/>
            <a:ext cx="8763120" cy="5343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7207200" y="306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7164360" y="3716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7236000" y="436572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833400" y="668160"/>
            <a:ext cx="7477200" cy="60487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763640" y="2781360"/>
            <a:ext cx="504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1692360" y="6208560"/>
            <a:ext cx="504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200160" y="1285920"/>
            <a:ext cx="8743680" cy="42861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190800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197964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1692360" y="5013360"/>
            <a:ext cx="324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628560" y="934920"/>
            <a:ext cx="7886880" cy="54482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763640" y="234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476360" y="3213000"/>
            <a:ext cx="374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763640" y="45226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1763640" y="517212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223920" y="733320"/>
            <a:ext cx="8696160" cy="580068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12291" descr=""/>
          <p:cNvPicPr/>
          <p:nvPr/>
        </p:nvPicPr>
        <p:blipFill>
          <a:blip r:embed="rId2"/>
          <a:stretch/>
        </p:blipFill>
        <p:spPr>
          <a:xfrm>
            <a:off x="1258920" y="3230640"/>
            <a:ext cx="70959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195120" y="1380960"/>
            <a:ext cx="8753760" cy="40960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826920" y="4797360"/>
            <a:ext cx="5905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00:34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